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4726-D18D-4BE7-9343-55DAE420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3B0F-06B1-492D-B7B1-37A631AC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E25-DD99-4B7B-821F-3F934A4E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B18-E2FD-41AA-930E-672735CB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DC18-9D39-42EA-B023-E54B4DBE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BC8B-F749-43FA-8526-91C67A72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C979-E2DE-4900-9A9F-9F793381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E57C-2FEE-4D7D-8422-EC8A5C24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DF9D-E2B7-42C6-B199-55795F7F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3703-7541-40DD-B773-3D898E4D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41CB-C56A-45CA-A91B-79E5B5A7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CCB7-3B09-4447-A4E8-FF0970CA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E13C-5712-4121-9E35-E94168EF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3AD4-9001-464D-BE7A-76FE8189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3599-FFAE-4A38-8AB7-215034E9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1F78-632F-4AEB-92E9-8A8E46F0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3D90-D3A6-4548-B30B-F4F4448D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4BE-0002-4F98-82F7-67A7697E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1B7-68C1-4E58-865C-A5892827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6B8-373E-4C07-8D94-FC318566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58D5-3883-416D-948C-FFFE3657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F7D-297D-40C0-B462-2B182797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1AAF-C668-4E8F-B22B-40628BCC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7B3-2873-4FFE-953A-98D0B163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CD2F-93ED-4500-A16B-1E395FA640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BA9C-1E33-4C39-BD3E-CCC9E3AF5C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ATO Financial Char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8 Forecast Build 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772400" y="6400800"/>
            <a:ext cx="106848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42240" y="261720"/>
            <a:ext cx="793476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sulta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752480"/>
          <a:ext cx="641844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752480"/>
                    <a:ext cx="641844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772400" y="6400800"/>
            <a:ext cx="106848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33240" y="363960"/>
            <a:ext cx="7882920" cy="10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urrent Busine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1752480"/>
          <a:ext cx="6782040" cy="4313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752480"/>
                    <a:ext cx="6782040" cy="43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772400" y="6400800"/>
            <a:ext cx="106848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Weighted Forecast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(New Business Only)- 2008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1752480"/>
          <a:ext cx="691992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752480"/>
                    <a:ext cx="69199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7772400" y="6400800"/>
            <a:ext cx="106848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Total Forecast – 2008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838080"/>
          <a:ext cx="7696080" cy="5213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838080"/>
                    <a:ext cx="769608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772400" y="6400800"/>
            <a:ext cx="106848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2:30Z</dcterms:created>
  <dc:creator>Tbmorgan</dc:creator>
  <dc:description/>
  <dc:language>en-US</dc:language>
  <cp:lastModifiedBy>Tbmorgan</cp:lastModifiedBy>
  <dcterms:modified xsi:type="dcterms:W3CDTF">2007-09-20T18:10:30Z</dcterms:modified>
  <cp:revision>4</cp:revision>
  <dc:subject/>
  <dc:title>NATO Financial Charts</dc:title>
</cp:coreProperties>
</file>